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61C4B-4C80-4BA7-8CDB-D5D642D8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9EB37-BAF7-49FF-91C2-E12AEA3F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07CED-2AF5-4782-A516-56CB8F79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F804F-23BD-448D-806F-BE05B02B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E4C0-B875-4D32-808B-11551A1F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DA25-0D75-466E-B892-A490A1DB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E60F-300C-4A07-B5DA-687A8508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DEF5-B4E6-4A42-B8D8-35EE8E68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E66C-D540-4E53-A261-54808192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19E2-9623-499C-B3DE-6440C26A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2B3B-DEF3-4493-9344-8E6321ED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9A85B-665F-49D7-81A7-23EE4F73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8988-5C9A-4045-BB64-54320E0C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0A49-A424-4B94-9E3C-A522F27C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2800-6A65-472E-A9AA-F42D48C6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56E3-AD4C-4A8A-85AA-39AE6FCF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CAD5-7D22-4DBD-99B0-EFB25805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EA433-B26A-48D1-A6DA-C556EC5D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BC49B-06F6-4643-97A9-91BF6DFA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DDD0D-ED20-4270-A77D-B078592E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5FA08-4137-4B34-AE88-4D6ED2BA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D1FB3-E7C1-4078-926F-814CD657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2369D-8A79-4E89-A8B8-188A22DC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16331-CD30-4170-B825-BE62E936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9F97-810A-4CA7-AF3B-1AE1D9BF1C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0FFF-E5A3-4E12-B248-1F7BE3EDE1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ina.com/" TargetMode="External"/><Relationship Id="rId2" Type="http://schemas.openxmlformats.org/officeDocument/2006/relationships/hyperlink" Target="http://www.wikipedia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  <a:ea typeface="David Transparent"/>
              </a:rPr>
              <a:t>IRS Project Presentati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ne By Randy T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search Ques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es wearing a swim cap or a swimsuit make you swim faster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ypothe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aring a swimcap and a swimsuit will make you swim fa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Background Research: International Requirements and Limita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Swimwear must be approved by FINA at least 12 months prior to any competition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No technological-doping mechanism of any kind (</a:t>
            </a: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compression of body, extra water-repellent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) is allowed for the swimsuit. (</a:t>
            </a: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e.g. the banned “Blue Seventy Nero Comp” and the banned “Speedo LZR racer swimsuit”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en-GB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The swimmer must wear only one swimsuit in one or two pieces. No additional items, like arm bands or leg bands shall be regarded as parts of a swimsui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Swimwear for men shall not extend above the navel nor below the knees, and for women, shall not cover the neck, extend past the shoulder, nor shall extend below kne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All swimsuits are to be made with textile materia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25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ackground Research : Factors that affect spee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ter Resist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wimmer’s Energy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water press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racteristics of swimwear (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.g. tightness of swimwear, size of swimwear etc.)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ight of swim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urrent Fl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urbul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kill of swim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9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9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9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9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950"/>
                            </p:stCondLst>
                            <p:childTnLst>
                              <p:par>
                                <p:cTn id="4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750"/>
                            </p:stCondLst>
                            <p:childTnLst>
                              <p:par>
                                <p:cTn id="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925"/>
                            </p:stCondLst>
                            <p:childTnLst>
                              <p:par>
                                <p:cTn id="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950"/>
                            </p:stCondLst>
                            <p:childTnLst>
                              <p:par>
                                <p:cTn id="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4800"/>
                            </p:stCondLst>
                            <p:childTnLst>
                              <p:par>
                                <p:cTn id="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6600"/>
                            </p:stCondLst>
                            <p:childTnLst>
                              <p:par>
                                <p:cTn id="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8100"/>
                            </p:stCondLst>
                            <p:childTnLst>
                              <p:par>
                                <p:cTn id="8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9525"/>
                            </p:stCondLst>
                            <p:childTnLst>
                              <p:par>
                                <p:cTn id="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ntroversy Behind The Ques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ther wearing different types of swimwear (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.g. Swim cap, swimsui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will affect your spe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perimental Procedure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1: Swim until you are very tired. Before you start, get someone to take pictur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2: wear swimming trunks, get into the swimming pool and swim 50 meters freestyle at the surface. Take down the timing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3: Dry yourself, wear a swim cap, get into swimming pool and swim 50 meters freestyle at the surface. Record the timing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4: take off swim cap, change to swim suit, get into swimming pool and swim 50 meters freestyle at the surface. Record the timing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5: Dry yourself, wear back swim cap, get into swimming pool and swim 50 meters freestyle at the surface. Record the timing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6: Repeat step 2 to step 5 once each week for 4 more week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blems and Sol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oblem no.1: As you swim more and more, you will get slower and slower until a certain speed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lution no.1: Swim until that limit, then start the experimen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oblem no.2: As the water pressure increases as you swim deeper, it will affect your speed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lution no.2: Swim at the surfac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oblem no.3: The weather will affect the current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.g. strong winds make rippling waves across a swimming pool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lution no.3: Do the experiment on sunny days only, and make sure no one is swimming in front of you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Line 7"/>
          <p:cNvSpPr/>
          <p:nvPr/>
        </p:nvSpPr>
        <p:spPr>
          <a:xfrm flipV="1">
            <a:off x="5029200" y="152388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5029200" y="28954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5486400" y="2971800"/>
            <a:ext cx="60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Tim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AutoShape 11"/>
          <p:cNvSpPr/>
          <p:nvPr/>
        </p:nvSpPr>
        <p:spPr>
          <a:xfrm rot="5400000">
            <a:off x="6514920" y="2857320"/>
            <a:ext cx="152280" cy="7632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AutoShape 12"/>
          <p:cNvSpPr/>
          <p:nvPr/>
        </p:nvSpPr>
        <p:spPr>
          <a:xfrm>
            <a:off x="4952880" y="1371600"/>
            <a:ext cx="152640" cy="152280"/>
          </a:xfrm>
          <a:prstGeom prst="triangle">
            <a:avLst>
              <a:gd name="adj" fmla="val 3854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4724280" y="1523880"/>
            <a:ext cx="228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Line 14"/>
          <p:cNvSpPr/>
          <p:nvPr/>
        </p:nvSpPr>
        <p:spPr>
          <a:xfrm>
            <a:off x="5029200" y="1523880"/>
            <a:ext cx="99072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Line 15"/>
          <p:cNvSpPr/>
          <p:nvPr/>
        </p:nvSpPr>
        <p:spPr>
          <a:xfrm>
            <a:off x="6019920" y="2514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mph" presetID="15">
                                  <p:stCondLst>
                                    <p:cond delay="6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indefinite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425"/>
                            </p:stCondLst>
                            <p:childTnLst>
                              <p:par>
                                <p:cTn id="109" nodeType="afterEffect" fill="hold" presetClass="emph" presetID="15">
                                  <p:stCondLst>
                                    <p:cond delay="5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4875"/>
                            </p:stCondLst>
                            <p:childTnLst>
                              <p:par>
                                <p:cTn id="112" nodeType="afterEffect" fill="hold" presetClass="emph" presetID="15">
                                  <p:stCondLst>
                                    <p:cond delay="5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mph" presetID="15">
                                  <p:stCondLst>
                                    <p:cond delay="3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6125"/>
                            </p:stCondLst>
                            <p:childTnLst>
                              <p:par>
                                <p:cTn id="118" nodeType="afterEffect" fill="hold" presetClass="emph" presetID="15">
                                  <p:stCondLst>
                                    <p:cond delay="7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indefinite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6100"/>
                            </p:stCondLst>
                            <p:childTnLst>
                              <p:par>
                                <p:cTn id="121" nodeType="afterEffect" fill="hold" presetClass="emph" presetID="15">
                                  <p:stCondLst>
                                    <p:cond delay="7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ww.FINA.c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www.wikipedia.co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7T02:47:46Z</dcterms:created>
  <dc:creator> </dc:creator>
  <dc:description/>
  <dc:language>en-US</dc:language>
  <cp:lastModifiedBy>Andy Tan Y T</cp:lastModifiedBy>
  <dcterms:modified xsi:type="dcterms:W3CDTF">2010-04-11T10:33:39Z</dcterms:modified>
  <cp:revision>15</cp:revision>
  <dc:subject/>
  <dc:title>IRS Project</dc:title>
</cp:coreProperties>
</file>